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380880"/>
            <a:ext cx="327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ATSBY SCIENCE ENHANCEMENT PROGRAM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91120" y="333360"/>
            <a:ext cx="4724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NOVATIONS IN PRACTICAL WORK: METALS AND SMART ALLO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57913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sting the strength of a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19112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914400"/>
            <a:ext cx="2717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tion of tensile strength with carbon content of a 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0" b="67901"/>
          <a:stretch/>
        </p:blipFill>
        <p:spPr>
          <a:xfrm>
            <a:off x="1996920" y="1295280"/>
            <a:ext cx="514836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tion of increase in length with carbon content of a 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32099" r="0" b="33660"/>
          <a:stretch/>
        </p:blipFill>
        <p:spPr>
          <a:xfrm>
            <a:off x="1974960" y="1066680"/>
            <a:ext cx="519264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tion of hardness with carbon content of a 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66344" r="0" b="882"/>
          <a:stretch/>
        </p:blipFill>
        <p:spPr>
          <a:xfrm>
            <a:off x="1879560" y="990720"/>
            <a:ext cx="5384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etching a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1246320"/>
            <a:ext cx="434340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plasticine and sand to model carbon steels of different com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82920" y="990720"/>
            <a:ext cx="2378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king a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93960" y="1905120"/>
            <a:ext cx="3554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lling a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3213360" cy="1411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2209680"/>
            <a:ext cx="368748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s of carbon steels with different com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6920" y="2971800"/>
            <a:ext cx="2766960" cy="1395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2125800" cy="143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981080" y="3048120"/>
            <a:ext cx="2109960" cy="1784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257800" y="990720"/>
            <a:ext cx="21686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ample of steel before and after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70200" y="1582560"/>
            <a:ext cx="360360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mples of steel with different carbon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09480" y="1447920"/>
          <a:ext cx="3760920" cy="18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376092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876920" y="1447920"/>
          <a:ext cx="3555720" cy="18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447920"/>
                    <a:ext cx="3555720" cy="18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676520" y="3581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0.4% carb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581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15% carb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racture surface of a carbon steel sample (0.54% carb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95640" y="1295280"/>
            <a:ext cx="29527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06:17Z</dcterms:created>
  <dc:creator>SEP</dc:creator>
  <dc:description/>
  <dc:language>en-US</dc:language>
  <cp:lastModifiedBy>stbanksg</cp:lastModifiedBy>
  <dcterms:modified xsi:type="dcterms:W3CDTF">2007-03-13T12:47:40Z</dcterms:modified>
  <cp:revision>17</cp:revision>
  <dc:subject/>
  <dc:title>PowerPoint Presentation</dc:title>
</cp:coreProperties>
</file>